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B6A7-D580-4688-8442-AA9ECFF9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7B01-548E-4392-93C9-BE4FD886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EA4F-89A2-4653-8DE1-477BB108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1D30-DE24-41E0-BEBE-65556CA4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6062-8E5E-40D6-BFEF-0E71E991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2A98-4B5E-484D-A0D6-235BFFA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2C63-1C0C-4EE8-BF98-4B07772E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8841-BC22-4F3A-9ED5-97078E9A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83F1-B968-4C70-A58A-913FC2B8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9A2D-1326-4211-A69F-5D64F9E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1F6E-E9FB-4D0F-B8A5-4C6F8A49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757B-AFF1-4A1D-97B7-9FDCE20D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ABD1-D864-4258-BDBA-C213EF76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0B35-D364-4F0A-8D93-B5579ADE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316F-22D1-47AF-849D-513E8CCA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27B1-A983-421A-BC12-458FDDC1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4887-A647-487C-AE76-9245801F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260A-C47D-4363-AB4F-E17FC786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3DBD-E3E3-4098-80CF-460D5C80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B322-374F-49D0-9CAA-352642D2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2C8D-20F6-4C39-B1A7-9F7ECF36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9EF3-24C2-436D-8D8C-D4810BE6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3D13-096B-4156-BD62-E9444134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19E7-3CF3-4F76-B6B8-D862CE9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6080"/>
            <a:ext cx="9350640" cy="5638680"/>
            <a:chOff x="-103320" y="1306080"/>
            <a:chExt cx="9350640" cy="5638680"/>
          </a:xfrm>
        </p:grpSpPr>
        <p:sp>
          <p:nvSpPr>
            <p:cNvPr id="1" name=""/>
            <p:cNvSpPr/>
            <p:nvPr/>
          </p:nvSpPr>
          <p:spPr>
            <a:xfrm flipV="1" rot="20820000">
              <a:off x="-22320" y="1637280"/>
              <a:ext cx="2768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60000">
              <a:off x="-36360" y="178668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60000">
              <a:off x="-42840" y="19008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700000">
              <a:off x="-68400" y="2035080"/>
              <a:ext cx="3930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40000">
              <a:off x="-81000" y="221580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80000">
              <a:off x="-103320" y="2415240"/>
              <a:ext cx="485460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0000">
              <a:off x="-145800" y="2687760"/>
              <a:ext cx="540252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0000">
              <a:off x="-155160" y="295524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20000">
              <a:off x="-261720" y="325728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0000">
              <a:off x="-339840" y="36320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0000">
              <a:off x="-496800" y="4152600"/>
              <a:ext cx="825480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0000">
              <a:off x="14040" y="456984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0000">
              <a:off x="2095200" y="46454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9020000">
              <a:off x="4257360" y="487296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0000">
              <a:off x="6432840" y="5561640"/>
              <a:ext cx="3300480" cy="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60000">
              <a:off x="8521920" y="661464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-231840" y="37447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00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40000">
              <a:off x="-260280" y="575136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80000">
              <a:off x="-174600" y="62247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0000">
              <a:off x="-341280" y="511344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60000">
              <a:off x="-182520" y="33778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60000">
              <a:off x="128520" y="3089160"/>
              <a:ext cx="91378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593640" y="285876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80000">
              <a:off x="134748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1672920" y="23414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720000">
              <a:off x="197604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60000">
              <a:off x="2360160" y="2072160"/>
              <a:ext cx="684864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60000">
              <a:off x="2620800" y="19350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40000">
              <a:off x="96984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60000">
              <a:off x="-321840" y="472392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00000">
              <a:off x="-276120" y="42267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2E3129-7243-4B05-9287-34361C752E4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4760" y="1309320"/>
            <a:ext cx="9350280" cy="5638680"/>
            <a:chOff x="-104760" y="1309320"/>
            <a:chExt cx="9350280" cy="5638680"/>
          </a:xfrm>
        </p:grpSpPr>
        <p:sp>
          <p:nvSpPr>
            <p:cNvPr id="258" name=""/>
            <p:cNvSpPr/>
            <p:nvPr/>
          </p:nvSpPr>
          <p:spPr>
            <a:xfrm flipV="1" rot="20820000">
              <a:off x="-23760" y="164052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60000">
              <a:off x="-38160" y="17899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60000">
              <a:off x="-44280" y="19029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00000">
              <a:off x="-69840" y="20383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40000">
              <a:off x="-82440" y="221904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80000">
              <a:off x="-104760" y="241884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0000">
              <a:off x="-149400" y="2689920"/>
              <a:ext cx="540252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0000">
              <a:off x="-156960" y="295848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20000">
              <a:off x="-2631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0000">
              <a:off x="-341280" y="363528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0000">
              <a:off x="-4986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0000">
              <a:off x="122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0000">
              <a:off x="2091960" y="4649040"/>
              <a:ext cx="732168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020000">
              <a:off x="4254120" y="48762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0000">
              <a:off x="6432120" y="5564880"/>
              <a:ext cx="329976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60000">
              <a:off x="8520480" y="661788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">
              <a:off x="-233280" y="3747600"/>
              <a:ext cx="959796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0000">
              <a:off x="-316080" y="5392800"/>
              <a:ext cx="657576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40000">
              <a:off x="-262080" y="57546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80000">
              <a:off x="-176040" y="6227280"/>
              <a:ext cx="222228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0000">
              <a:off x="-344520" y="511668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0000">
              <a:off x="-184320" y="338112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60000">
              <a:off x="127080" y="309240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40000">
              <a:off x="592200" y="286200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000">
              <a:off x="1344240" y="2514240"/>
              <a:ext cx="7899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20000">
              <a:off x="1671120" y="234468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20000">
              <a:off x="1974600" y="218880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60000">
              <a:off x="2358720" y="2076120"/>
              <a:ext cx="684828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60000">
              <a:off x="2619360" y="19382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40000">
              <a:off x="968400" y="2673720"/>
              <a:ext cx="8261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60000">
              <a:off x="-325080" y="472716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00000">
              <a:off x="-277920" y="4230000"/>
              <a:ext cx="9690120" cy="936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24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920" y="5800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800" y="42274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40040" y="48862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9080" y="4510080"/>
              <a:ext cx="2397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40" y="421956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9040" y="41972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81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1320" y="366228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56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9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3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520" y="2825640"/>
              <a:ext cx="20304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840" y="3432240"/>
              <a:ext cx="21096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36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96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480" y="345600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9280" y="3672000"/>
              <a:ext cx="21240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4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3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9200" y="2840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40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720" y="2855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840" y="302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360" y="36910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6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1000" y="39276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7040" y="320184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560" y="27018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080" y="23940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9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104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64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8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800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360" y="2397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6989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5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1280" y="27036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5040" y="25560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640" y="5802480"/>
              <a:ext cx="31104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48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7000" y="49086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440" y="45543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400" y="4238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680" y="5337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880" y="36576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96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500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8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960" y="227484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52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96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8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2200" y="205416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680" y="18604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840" y="217476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4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960" y="22636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760" y="21589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6240" y="183528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520" y="2170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924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800" y="2155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800" y="17636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42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632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1040" y="2270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560" y="16858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3320" y="1670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7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1040" y="19540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60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880" y="20574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32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17510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480" y="184788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5040" y="21556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0280" y="19447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600" y="17463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720" y="213516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680" y="1838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720" y="1943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40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6120" y="18543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680" y="17827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4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6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2280"/>
              <a:ext cx="16056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7240" y="16113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44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72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920" y="225756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6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680" y="19270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6160" y="144468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68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76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92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76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4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440"/>
              <a:ext cx="150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960"/>
              <a:ext cx="16056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400" y="63961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84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92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524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640" y="5364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520" y="4221000"/>
              <a:ext cx="239760" cy="1335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68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60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0240" y="2871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50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76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76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96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8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9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8000" y="64310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960" y="539424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60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916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4564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5000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960" y="45734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4040" y="4246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8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88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680"/>
              <a:ext cx="22248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88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480" y="4257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4760" y="4551480"/>
              <a:ext cx="2379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52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840" y="2282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560" y="636912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8F1750-F849-4641-A277-8C5F1869EA0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t.wikipedia.org/wiki/Pol&#237;mero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algosobre.com.br/quimica/polimeros.html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polimeros.no.sapo.pt/polim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brasilescola.com/quimica/polimeros.htm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206028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6600" spc="-1" strike="noStrike">
                <a:solidFill>
                  <a:srgbClr val="dfdef6"/>
                </a:solidFill>
                <a:latin typeface="Arial"/>
              </a:rPr>
              <a:t>Polímeros 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9236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tividade 3.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6093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fª Rosil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POLÍMERO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649"/>
              </a:spcBef>
              <a:buSzPct val="12649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Publico Alvo: alunos do 3º Ano (Química)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2000"/>
              </a:lnSpc>
              <a:spcBef>
                <a:spcPts val="649"/>
              </a:spcBef>
              <a:buSzPct val="12649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Duração: 04 au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2649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Objetivo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dentificar e analisar os vários tipos de polímero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Estudar as características gerais dos polímero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omparando os diferentes tipos de polímeros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52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Alguns sites pesquisado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t.wikipedia.org/wiki/Pol%C3%ADmer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algosobre.com.br/quimica/polimero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polimeros.no.sapo.pt/poli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brasilescola.com/quimica/polimero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9160" cy="48481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5651640" y="2486160"/>
            <a:ext cx="327312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5759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292720" y="3141720"/>
            <a:ext cx="38512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Conclusão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estudo dos resíduos sólidos levam a geração de empregos na coleta e separaç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s plásticos tem papel importante na indústria  e na sociedade estão nas mais diversas aplicações desses produtos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las práticas são muito interessantes, os alunos se envolvem, ficam mais atentos e curiosos. Algumas aulas práticas podem fazer a diferença na vida dos alunos. É possível trabalhar qualquer assunto basta ter um pouco de criatividade e disponibil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uno27</dc:creator>
  <dc:description/>
  <dc:language>en-US</dc:language>
  <cp:lastModifiedBy>Aluno27</cp:lastModifiedBy>
  <cp:revision>0</cp:revision>
  <dc:subject/>
  <dc:title>Polímeros </dc:title>
</cp:coreProperties>
</file>