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0F4B-C1A3-49CD-AF26-16BAAD55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4309-E1E9-43E1-A247-A2E81B73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5C59-FDD8-4C55-8B01-30B9D8A1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43CF-D205-4403-A381-12EAD94C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E6AA-E552-4D37-87D8-4F2089EB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E626-5067-4707-ACC5-D50AFEF9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CFA6-13F5-4E51-AAAB-F40216D1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B01F-1CBF-43D7-9216-1CC3024C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D365-B637-4DCF-8A32-EBA7803A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5C98-4127-4DE1-B6DF-724AFB33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4772-0D43-42B6-9376-8C34D300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5B9B-F024-4E84-933F-56A00D3C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CFAF-FFF0-4031-9D25-9444A51B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8AB7-EAA2-428C-ACB7-F9B41B0E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7D38-5A13-4F69-AB9B-807122A6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1F78-4158-43F6-A561-C809FDBE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DB9A-87DD-48D6-88B5-A65D252B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882F-13A8-4D59-9356-A34F29C0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E188-DBC1-4504-B9BC-6E2F5D5D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8D1C-DA2C-44CC-A592-8F22D4BE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54FA-0384-4E59-AC16-55BFF123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22D4-CB1F-4BA0-9F4B-8756083A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D6DA-725F-4C62-9E58-93766BC1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8FB2-1916-413B-9EB3-D70E30F4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6080"/>
            <a:ext cx="9350640" cy="5638680"/>
            <a:chOff x="-103320" y="1306080"/>
            <a:chExt cx="9350640" cy="5638680"/>
          </a:xfrm>
        </p:grpSpPr>
        <p:sp>
          <p:nvSpPr>
            <p:cNvPr id="1" name=""/>
            <p:cNvSpPr/>
            <p:nvPr/>
          </p:nvSpPr>
          <p:spPr>
            <a:xfrm flipV="1" rot="20820000">
              <a:off x="-22320" y="1637280"/>
              <a:ext cx="27687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60000">
              <a:off x="-36360" y="178668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60000">
              <a:off x="-42840" y="19008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700000">
              <a:off x="-68400" y="2035080"/>
              <a:ext cx="3930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40000">
              <a:off x="-81000" y="221580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80000">
              <a:off x="-103320" y="2415240"/>
              <a:ext cx="485460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0000">
              <a:off x="-145800" y="2687760"/>
              <a:ext cx="540252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0000">
              <a:off x="-155160" y="2955240"/>
              <a:ext cx="5951520" cy="936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20000">
              <a:off x="-261720" y="325728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0000">
              <a:off x="-339840" y="36320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0000">
              <a:off x="-496800" y="4152600"/>
              <a:ext cx="825480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0000">
              <a:off x="14040" y="4569840"/>
              <a:ext cx="8574120" cy="936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0000">
              <a:off x="2095200" y="46454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9020000">
              <a:off x="4257360" y="487296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0000">
              <a:off x="6432840" y="5561640"/>
              <a:ext cx="3300480" cy="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60000">
              <a:off x="8521920" y="661464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-231840" y="37447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00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40000">
              <a:off x="-260280" y="575136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80000">
              <a:off x="-174600" y="62247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0000">
              <a:off x="-341280" y="511344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60000">
              <a:off x="-182520" y="337788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60000">
              <a:off x="128520" y="3089160"/>
              <a:ext cx="91378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40000">
              <a:off x="593640" y="285876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80000">
              <a:off x="134748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20000">
              <a:off x="1672920" y="234144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720000">
              <a:off x="197604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60000">
              <a:off x="2360160" y="2072160"/>
              <a:ext cx="6848640" cy="1008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60000">
              <a:off x="2620800" y="19350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40000">
              <a:off x="96984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60000">
              <a:off x="-321840" y="472392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200000">
              <a:off x="-276120" y="422676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74E02B-1BC6-4D1D-85B3-547DCAF0B00A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4760" y="1309320"/>
            <a:ext cx="9350280" cy="5638680"/>
            <a:chOff x="-104760" y="1309320"/>
            <a:chExt cx="9350280" cy="5638680"/>
          </a:xfrm>
        </p:grpSpPr>
        <p:sp>
          <p:nvSpPr>
            <p:cNvPr id="258" name=""/>
            <p:cNvSpPr/>
            <p:nvPr/>
          </p:nvSpPr>
          <p:spPr>
            <a:xfrm flipV="1" rot="20820000">
              <a:off x="-23760" y="1640520"/>
              <a:ext cx="2768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60000">
              <a:off x="-38160" y="17899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60000">
              <a:off x="-44280" y="1902960"/>
              <a:ext cx="3565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00000">
              <a:off x="-69840" y="2038320"/>
              <a:ext cx="3930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40000">
              <a:off x="-82440" y="221904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80000">
              <a:off x="-104760" y="241884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0000">
              <a:off x="-149400" y="2689920"/>
              <a:ext cx="540252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0000">
              <a:off x="-156960" y="2958480"/>
              <a:ext cx="5951520" cy="936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20000">
              <a:off x="-263160" y="326052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0000">
              <a:off x="-341280" y="363528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0000">
              <a:off x="-498600" y="4156200"/>
              <a:ext cx="82551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0000">
              <a:off x="122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0000">
              <a:off x="2091960" y="4649040"/>
              <a:ext cx="732168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020000">
              <a:off x="4254120" y="487620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0000">
              <a:off x="6432120" y="5564880"/>
              <a:ext cx="329976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60000">
              <a:off x="8520480" y="661788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">
              <a:off x="-233280" y="3747600"/>
              <a:ext cx="959796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0000">
              <a:off x="-316080" y="5392800"/>
              <a:ext cx="657576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40000">
              <a:off x="-262080" y="575460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80000">
              <a:off x="-176040" y="6227280"/>
              <a:ext cx="222228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0000">
              <a:off x="-344520" y="511668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60000">
              <a:off x="-184320" y="338112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60000">
              <a:off x="127080" y="309240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40000">
              <a:off x="592200" y="286200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80000">
              <a:off x="1344240" y="2514240"/>
              <a:ext cx="7899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20000">
              <a:off x="1671120" y="234468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20000">
              <a:off x="1974600" y="2188800"/>
              <a:ext cx="723420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60000">
              <a:off x="2358720" y="2076120"/>
              <a:ext cx="684828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60000">
              <a:off x="2619360" y="193824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40000">
              <a:off x="968400" y="2673720"/>
              <a:ext cx="826128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60000">
              <a:off x="-325080" y="472716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00000">
              <a:off x="-277920" y="4230000"/>
              <a:ext cx="9690120" cy="936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240" y="5335560"/>
              <a:ext cx="266760" cy="152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920" y="580068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800" y="42274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40040" y="48862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9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9080" y="4510080"/>
              <a:ext cx="2397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040" y="4219560"/>
              <a:ext cx="237960" cy="133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9040" y="41972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81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6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1320" y="366228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56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9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32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520" y="2825640"/>
              <a:ext cx="20304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840" y="3432240"/>
              <a:ext cx="21096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36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96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480" y="345600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9280" y="3672000"/>
              <a:ext cx="21240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6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4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3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9200" y="2840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40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720" y="2855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840" y="30211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360" y="36910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6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1000" y="39276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7040" y="320184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560" y="27018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7080" y="23940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9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104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64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8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800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3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360" y="23972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680" y="26989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51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1280" y="27036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5040" y="25560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640" y="5802480"/>
              <a:ext cx="31104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48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7000" y="49086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440" y="455436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400" y="423864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80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680" y="5337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880" y="36576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96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500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80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400" cy="810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960" y="227484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52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96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8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2200" y="205416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680" y="18604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840" y="217476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400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4240" y="20415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480"/>
              <a:ext cx="17640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960" y="22636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400" y="2041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760" y="21589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6240" y="183528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520" y="2170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924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800" y="2155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64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800" y="17636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7080" y="16621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42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632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1040" y="22701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560" y="16858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3320" y="16700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7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1040" y="19540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712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60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880" y="20574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32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840" y="17510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480" y="184788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5040" y="21556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0280" y="194472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600" y="17463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720" y="213516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680" y="1838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720" y="1943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40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6120" y="18543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680" y="17827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4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80" y="19591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6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2280"/>
              <a:ext cx="16056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7240" y="16113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440"/>
              <a:ext cx="160200" cy="601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720" y="159228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920" y="225756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62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680" y="19270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6160" y="144468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68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76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92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760"/>
              <a:ext cx="1335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4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440"/>
              <a:ext cx="150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760" y="1530360"/>
              <a:ext cx="141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960"/>
              <a:ext cx="16056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400" y="63961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840" y="583092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92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524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640" y="5364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520" y="4221000"/>
              <a:ext cx="239760" cy="1335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68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60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40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0240" y="2871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50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76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76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960"/>
              <a:ext cx="31140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8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9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8000" y="64310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960" y="539424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60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916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6280" y="4564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5000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960" y="45734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4040" y="4246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8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880"/>
              <a:ext cx="212760" cy="115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680"/>
              <a:ext cx="22248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88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480" y="4257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4760" y="4551480"/>
              <a:ext cx="2379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52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5840" y="22827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560" y="636912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EDF951F-1EEF-464A-8AC1-1ABB366E5715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t.wikipedia.org/wiki/Pol&#237;mero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algosobre.com.br/quimica/polimeros.html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polimeros.no.sapo.pt/polim.htm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brasilescola.com/quimica/polimeros.htm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2060280"/>
            <a:ext cx="77724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6600" spc="-1" strike="noStrike">
                <a:solidFill>
                  <a:srgbClr val="dfdef6"/>
                </a:solidFill>
                <a:latin typeface="Arial"/>
              </a:rPr>
              <a:t>Polímeros 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69236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tividade 3.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6093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fª Rosil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fdef6"/>
                </a:solidFill>
                <a:latin typeface="Arial"/>
              </a:rPr>
              <a:t>POLÍMERO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649"/>
              </a:spcBef>
              <a:buSzPct val="12649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Publico Alvo: alunos do 3º Ano (Química)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2000"/>
              </a:lnSpc>
              <a:spcBef>
                <a:spcPts val="649"/>
              </a:spcBef>
              <a:buSzPct val="12649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Duração: 04 aul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2649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Objetivo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dentificar e analisar os vários tipos de polímero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Estudar as características gerais dos polímero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Comparando os diferentes tipos de polímeros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52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fdef6"/>
                </a:solidFill>
                <a:latin typeface="Arial"/>
              </a:rPr>
              <a:t>Alguns sites pesquisado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t.wikipedia.org/wiki/Pol%C3%ADmer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algosobre.com.br/quimica/polimero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polimeros.no.sapo.pt/polim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brasilescola.com/quimica/polimero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29160" cy="48481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5651640" y="2486160"/>
            <a:ext cx="327312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5759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5292720" y="3141720"/>
            <a:ext cx="385128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fdef6"/>
                </a:solidFill>
                <a:latin typeface="Arial"/>
              </a:rPr>
              <a:t>Conclusão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928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estudo dos resíduos sólidos levam a geração de empregos na coleta e separaçã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s plásticos tem papel importante na indústria  e na sociedade estão nas mais diversas aplicações desses produtos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las práticas são muito interessantes, os alunos se envolvem, ficam mais atentos e curiosos. Algumas aulas práticas podem fazer a diferença na vida dos alunos. É possível trabalhar qualquer assunto basta ter um pouco de criatividade e disponibili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uno27</dc:creator>
  <dc:description/>
  <dc:language>en-US</dc:language>
  <cp:lastModifiedBy>Aluno27</cp:lastModifiedBy>
  <cp:revision>0</cp:revision>
  <dc:subject/>
  <dc:title>Polímeros </dc:title>
</cp:coreProperties>
</file>