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013D-9746-4E8F-AB08-5390A67F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842E-3310-4ADB-B5C9-BA303E15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BC4A-816C-4045-AD30-87399171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D649-D892-4DC0-AE88-30A9B27E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7D74-D60A-41DF-86A1-769A8700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305F-68F9-4853-9515-064C14C2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ADA4-0CB5-441D-8CF4-12ECDE48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9BFA-9A98-428E-B5F9-5FBFF458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C33C-46DA-492F-B112-593751A0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955E-FA2E-417F-9801-CCC29F55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BCA5-B6C9-4EC7-98D4-F4355102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89DB-0CAC-4641-BD90-6267E9A5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7B31-43F7-460B-A0F7-D1DCAA80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896B-B2FE-4122-9441-06CCC242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0C3F-519F-4F07-A4F4-E96E94E7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7922-8FBF-4120-A3F3-A56E83F2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554D-173D-4EEB-B59B-87EA56E8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8BB0-FD7A-4881-87BA-4A63849A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8558-1429-4DD7-BA84-2C9BCD82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E291-FB27-47F2-883C-B659D483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C93F-D223-4EBC-A286-790F1DC5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8F5D-27C1-4931-8465-52AA0F1C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3230-A1BE-4002-9AC1-9CB1DB17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148B-79BF-473D-A823-ED835541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6080"/>
            <a:ext cx="9350640" cy="5638680"/>
            <a:chOff x="-103320" y="1306080"/>
            <a:chExt cx="9350640" cy="5638680"/>
          </a:xfrm>
        </p:grpSpPr>
        <p:sp>
          <p:nvSpPr>
            <p:cNvPr id="1" name=""/>
            <p:cNvSpPr/>
            <p:nvPr/>
          </p:nvSpPr>
          <p:spPr>
            <a:xfrm flipV="1" rot="20820000">
              <a:off x="-22320" y="1637280"/>
              <a:ext cx="2768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60000">
              <a:off x="-36360" y="178668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60000">
              <a:off x="-42840" y="19008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700000">
              <a:off x="-68400" y="2035080"/>
              <a:ext cx="3930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40000">
              <a:off x="-81000" y="221580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80000">
              <a:off x="-103320" y="2415240"/>
              <a:ext cx="485460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0000">
              <a:off x="-145800" y="2687760"/>
              <a:ext cx="540252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0000">
              <a:off x="-155160" y="2955240"/>
              <a:ext cx="5951520" cy="936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20000">
              <a:off x="-261720" y="325728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0000">
              <a:off x="-339840" y="36320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0000">
              <a:off x="-496800" y="4152600"/>
              <a:ext cx="825480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0000">
              <a:off x="14040" y="456984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0000">
              <a:off x="2095200" y="46454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9020000">
              <a:off x="4257360" y="487296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0000">
              <a:off x="6432840" y="5561640"/>
              <a:ext cx="3300480" cy="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60000">
              <a:off x="8521920" y="661464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-231840" y="37447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00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40000">
              <a:off x="-260280" y="575136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80000">
              <a:off x="-174600" y="62247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0000">
              <a:off x="-341280" y="511344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60000">
              <a:off x="-182520" y="337788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60000">
              <a:off x="128520" y="3089160"/>
              <a:ext cx="91378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40000">
              <a:off x="593640" y="285876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80000">
              <a:off x="134748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20000">
              <a:off x="1672920" y="234144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720000">
              <a:off x="197604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60000">
              <a:off x="2360160" y="2072160"/>
              <a:ext cx="6848640" cy="100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60000">
              <a:off x="2620800" y="19350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40000">
              <a:off x="96984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60000">
              <a:off x="-321840" y="472392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200000">
              <a:off x="-276120" y="422676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546BF6-3F92-4874-9753-BEA12BD02FAB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4760" y="1309320"/>
            <a:ext cx="9350280" cy="5638680"/>
            <a:chOff x="-104760" y="1309320"/>
            <a:chExt cx="9350280" cy="5638680"/>
          </a:xfrm>
        </p:grpSpPr>
        <p:sp>
          <p:nvSpPr>
            <p:cNvPr id="258" name=""/>
            <p:cNvSpPr/>
            <p:nvPr/>
          </p:nvSpPr>
          <p:spPr>
            <a:xfrm flipV="1" rot="20820000">
              <a:off x="-23760" y="164052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60000">
              <a:off x="-38160" y="17899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60000">
              <a:off x="-44280" y="190296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00000">
              <a:off x="-69840" y="203832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40000">
              <a:off x="-82440" y="221904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80000">
              <a:off x="-104760" y="241884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0000">
              <a:off x="-149400" y="2689920"/>
              <a:ext cx="540252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0000">
              <a:off x="-156960" y="2958480"/>
              <a:ext cx="5951520" cy="936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20000">
              <a:off x="-263160" y="326052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0000">
              <a:off x="-341280" y="363528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0000">
              <a:off x="-498600" y="415620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0000">
              <a:off x="122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0000">
              <a:off x="2091960" y="4649040"/>
              <a:ext cx="732168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020000">
              <a:off x="4254120" y="487620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0000">
              <a:off x="6432120" y="5564880"/>
              <a:ext cx="329976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60000">
              <a:off x="8520480" y="661788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">
              <a:off x="-233280" y="3747600"/>
              <a:ext cx="959796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0000">
              <a:off x="-316080" y="5392800"/>
              <a:ext cx="657576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40000">
              <a:off x="-262080" y="575460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80000">
              <a:off x="-176040" y="6227280"/>
              <a:ext cx="222228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0000">
              <a:off x="-344520" y="511668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60000">
              <a:off x="-184320" y="338112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60000">
              <a:off x="127080" y="309240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40000">
              <a:off x="592200" y="286200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80000">
              <a:off x="1344240" y="2514240"/>
              <a:ext cx="7899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20000">
              <a:off x="1671120" y="234468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20000">
              <a:off x="1974600" y="218880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60000">
              <a:off x="2358720" y="2076120"/>
              <a:ext cx="684828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60000">
              <a:off x="2619360" y="193824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40000">
              <a:off x="968400" y="2673720"/>
              <a:ext cx="826128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60000">
              <a:off x="-325080" y="472716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00000">
              <a:off x="-277920" y="4230000"/>
              <a:ext cx="9690120" cy="936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240" y="533556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920" y="580068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800" y="42274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40040" y="48862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9080" y="4510080"/>
              <a:ext cx="2397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040" y="421956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9040" y="41972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81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6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1320" y="366228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56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9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32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520" y="2825640"/>
              <a:ext cx="20304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840" y="3432240"/>
              <a:ext cx="21096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36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96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480" y="345600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9280" y="3672000"/>
              <a:ext cx="21240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6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4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3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9200" y="2840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40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720" y="2855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840" y="3021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360" y="36910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6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1000" y="39276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7040" y="320184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560" y="27018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7080" y="23940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9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104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64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8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800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3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360" y="23972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680" y="26989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51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1280" y="27036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5040" y="25560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640" y="5802480"/>
              <a:ext cx="31104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48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7000" y="49086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440" y="455436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400" y="423864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80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680" y="5337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880" y="36576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96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500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8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960" y="227484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52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96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8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2200" y="205416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680" y="18604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840" y="217476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400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4240" y="20415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48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960" y="22636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400" y="2041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760" y="21589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6240" y="183528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520" y="2170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924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800" y="2155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64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800" y="17636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7080" y="16621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42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632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1040" y="22701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560" y="16858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3320" y="16700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7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1040" y="19540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712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60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880" y="20574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32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840" y="17510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480" y="184788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5040" y="21556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0280" y="194472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600" y="17463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720" y="213516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680" y="1838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720" y="1943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40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6120" y="18543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680" y="17827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4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80" y="19591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6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2280"/>
              <a:ext cx="16056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7240" y="16113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44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720" y="159228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920" y="225756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62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680" y="19270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6160" y="144468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68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76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92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76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4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440"/>
              <a:ext cx="150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760" y="153036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960"/>
              <a:ext cx="16056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400" y="63961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840" y="583092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92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524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640" y="5364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520" y="4221000"/>
              <a:ext cx="239760" cy="1335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68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60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40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0240" y="2871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50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76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76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96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8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9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8000" y="64310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960" y="539424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60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916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4564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5000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960" y="45734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4040" y="4246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8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88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680"/>
              <a:ext cx="22248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88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480" y="4257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4760" y="4551480"/>
              <a:ext cx="2379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52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5840" y="22827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560" y="636912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BFBD4C-91B7-434F-A5A7-37F26EE1D836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t.wikipedia.org/wiki/Pol&#237;mero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algosobre.com.br/quimica/polimeros.html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polimeros.no.sapo.pt/polim.htm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brasilescola.com/quimica/polimeros.htm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206028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6600" spc="-1" strike="noStrike">
                <a:solidFill>
                  <a:srgbClr val="dfdef6"/>
                </a:solidFill>
                <a:latin typeface="Arial"/>
              </a:rPr>
              <a:t>Polímeros 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69236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tividade 3.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6093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fª Rosil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POLÍMERO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649"/>
              </a:spcBef>
              <a:buSzPct val="12649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Publico Alvo: alunos do 3º Ano (Química)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2000"/>
              </a:lnSpc>
              <a:spcBef>
                <a:spcPts val="649"/>
              </a:spcBef>
              <a:buSzPct val="12649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Duração: 04 aul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2649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Objetivo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dentificar e analisar os vários tipos de polímero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Estudar as características gerais dos polímero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omparando os diferentes tipos de polímeros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52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Alguns sites pesquisado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t.wikipedia.org/wiki/Pol%C3%ADmer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algosobre.com.br/quimica/polimero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polimeros.no.sapo.pt/polim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brasilescola.com/quimica/polimero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29160" cy="48481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5651640" y="2486160"/>
            <a:ext cx="327312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5759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5292720" y="3141720"/>
            <a:ext cx="38512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Conclusão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estudo dos resíduos sólidos levam a geração de empregos na coleta e separaçã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s plásticos tem papel importante na indústria  e na sociedade estão nas mais diversas aplicações desses produtos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las práticas são muito interessantes, os alunos se envolvem, ficam mais atentos e curiosos. Algumas aulas práticas podem fazer a diferença na vida dos alunos. É possível trabalhar qualquer assunto basta ter um pouco de criatividade e disponibili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uno27</dc:creator>
  <dc:description/>
  <dc:language>en-US</dc:language>
  <cp:lastModifiedBy>Aluno27</cp:lastModifiedBy>
  <cp:revision>0</cp:revision>
  <dc:subject/>
  <dc:title>Polímeros </dc:title>
</cp:coreProperties>
</file>