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0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0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488880"/>
            <a:ext cx="8604360" cy="64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488880"/>
            <a:ext cx="860436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.br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.br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0" y="2340000"/>
            <a:ext cx="324000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-2523960"/>
            <a:ext cx="90709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limentação é Vida”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2400" y="279684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Rosi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youtube.com.b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http:/professorarose.wikispaces.com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80360" y="4500720"/>
            <a:ext cx="268740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mputadores com acesso a internet,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âmara fotográfica, camara de vide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youtube.com.b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http:/professorarose.wikispaces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32600" y="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ºAno  Quí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stâncias importantes ou tóxicas para o organism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site pode ser encontrado 02 videos, cada um mostra os beneficios de uma boa dieta e os prejuízos  de uma má aliment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videos serão apresentados a turma e depois postado na página da escol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231840"/>
                <a:tab algn="l" pos="681120"/>
                <a:tab algn="l" pos="1130400"/>
                <a:tab algn="l" pos="1579680"/>
                <a:tab algn="l" pos="2028960"/>
                <a:tab algn="l" pos="2478240"/>
                <a:tab algn="l" pos="2927520"/>
                <a:tab algn="l" pos="3376440"/>
                <a:tab algn="l" pos="3825720"/>
                <a:tab algn="l" pos="4275000"/>
                <a:tab algn="l" pos="4724280"/>
                <a:tab algn="l" pos="5173560"/>
                <a:tab algn="l" pos="5622840"/>
                <a:tab algn="l" pos="6072120"/>
                <a:tab algn="l" pos="6521400"/>
                <a:tab algn="l" pos="6970680"/>
                <a:tab algn="l" pos="7419960"/>
                <a:tab algn="l" pos="7869240"/>
                <a:tab algn="l" pos="8318520"/>
                <a:tab algn="l" pos="8767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valiação : participação e a confecção dos videos pelos próprios alu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